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25B-FA18-4DB5-B79E-89472B79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A73-05FC-4FFD-B339-13039F71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7F0-0D74-42EC-A11A-B23BDD63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CA1-FBEF-47F6-809C-1869DA4E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6502-7BDB-41D9-88ED-17652634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45BF-74D4-4118-A95F-9E27B605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0DD7-F471-481C-BEEF-03FB9148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322B-9A76-46C9-B24E-1332B39D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44B0-66C9-449F-8D7C-55B92561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EFC5-0619-4D0E-BAC8-F8F9B080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896F-3B47-435B-B6E1-167C706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5D2-1777-4F48-A891-C42233B3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4663-5AA7-4495-BA18-976DD5BA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FEBF-53EA-4C23-BE57-63ACAB61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8100-7493-4DCD-981B-17915D57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50EF-D601-41F2-BC9D-A58C26DB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A8C0-3297-44EB-B0AD-B0CA00DF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6CF-9EA9-4FF5-8D72-F6BFD374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15E-6E51-43D0-B2B1-0CB1B52F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A5C-0EBE-438C-AC43-8603D5BB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2C7-188E-4ED6-B007-C6B3FA75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7ED-3CA4-4490-A132-E9893B7B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274-5AD0-467D-8FE2-57F4E2D7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358-D576-49FF-9103-4FCAC7B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24C5-4472-4118-803E-395621378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248E-0833-4CED-975E-5BB8CD852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en/search/close-up.html?&amp;oid=4938392&amp;s=1&amp;sc=1&amp;st=6&amp;q=toucan&amp;spage=1&amp;hoid=2e8b49233e6bef6bb8eb37e99ce6652e" TargetMode="External"/><Relationship Id="rId2" Type="http://schemas.openxmlformats.org/officeDocument/2006/relationships/image" Target="../media/image1.gif"/><Relationship Id="rId3" Type="http://schemas.openxmlformats.org/officeDocument/2006/relationships/hyperlink" Target="http://www.animationfactory.com/en/search/close-up.html?&amp;oid=4945844&amp;s=1&amp;sc=1&amp;st=113&amp;category_id=E1&amp;q=butterfly&amp;spage=1&amp;hoid=ec139abeeedb2ce81e13ddff0777402b" TargetMode="External"/><Relationship Id="rId4" Type="http://schemas.openxmlformats.org/officeDocument/2006/relationships/image" Target="../media/image2.gif"/><Relationship Id="rId5" Type="http://schemas.openxmlformats.org/officeDocument/2006/relationships/hyperlink" Target="http://www.animationfactory.com/en/search/close-up.html?&amp;oid=4952222&amp;s=1&amp;sc=1&amp;st=18&amp;q=volcano&amp;spage=1&amp;hoid=d6730031e523e2f119fef97329fdb595" TargetMode="External"/><Relationship Id="rId6" Type="http://schemas.openxmlformats.org/officeDocument/2006/relationships/image" Target="../media/image3.gif"/><Relationship Id="rId7" Type="http://schemas.openxmlformats.org/officeDocument/2006/relationships/hyperlink" Target="http://images.google.com/imgres?imgurl=http://www.travelexcellence.com/images/costa-rica-map%255B1%255D.jpg&amp;imgrefurl=http://www.travelexcellence.com/location.htm&amp;usg=__3h3ajfNNlaTxoO-wDx3Tf21BUMc=&amp;h=559&amp;w=571&amp;sz=99&amp;hl=en&amp;start=5&amp;tbnid=tD5o9LjupXPAVM:&amp;tbnh=131&amp;tbnw=134&amp;prev=/images%3Fq%3Dcosta%2Brica%2Bmap%26gbv%3D2%26hl%3Den%26sa%3D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ermissionresearch.com/images/pr/pre_en_waterfalls_large.jpg&amp;imgrefurl=http://www.permissionresearch.com/ScreensaversDescription.aspx&amp;usg=__d9h2Oh-wOQJpuR4pKzdx6z-0muM=&amp;h=480&amp;w=640&amp;sz=85&amp;hl=en&amp;start=10&amp;tbnid=lbViKtQ1a5hJMM:&amp;tbnh=103&amp;tbnw=137&amp;prev=/images%3Fq%3Dwaterfalls%26gbv%3D2%26hl%3Den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softpedia.com/screenshots/Forest-Waterfalls_1.png&amp;imgrefurl=http://www.softpedia.com/progScreenshots/Forest-Waterfalls-Screenshot-34763.html&amp;usg=__7oHD65ykKAN9Hb8JfC5zh8auSKI=&amp;h=567&amp;w=504&amp;sz=184&amp;hl=en&amp;start=28&amp;tbnid=1Et1PYPU5m7FzM:&amp;tbnh=134&amp;tbnw=119&amp;prev=/images%3Fq%3Dwaterfalls%26gbv%3D2%26ndsp%3D20%26hl%3Den%26sa%3DN%26start%3D20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img2.travelblog.org/Photos/11183/92671/f/594340-Rainforest-0.jpg&amp;imgrefurl=http://www.travelblog.org/Photos/594340.html&amp;usg=__5bcsbEeLrlGOBlQSaCc5CEEA5VU=&amp;h=600&amp;w=450&amp;sz=96&amp;hl=en&amp;start=8&amp;tbnid=wmr6hxo_S3hoqM:&amp;tbnh=135&amp;tbnw=101&amp;prev=/images%3Fq%3Drainforest%26gbv%3D2%26hl%3Den%26sa%3D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marietta.edu/~biol/biomes/images/temprain/temperate_rainforest_5720.jpg&amp;imgrefurl=http://www.marietta.edu/~biol/biomes/temprain.htm&amp;usg=__M4ZB_Ylkpkg4oObPg-r5L82sGbA=&amp;h=375&amp;w=500&amp;sz=134&amp;hl=en&amp;start=14&amp;tbnid=IJ1Ryd8A-wBUVM:&amp;tbnh=98&amp;tbnw=130&amp;prev=/images%3Fq%3Drainforest%26gbv%3D2%26hl%3Den%26sa%3D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tribe.net/tribe/upload/photo/4c7/37b/4c737ba4-ee90-4429-83e7-f9973dfd0b21.large-profile.jpg&amp;imgrefurl=http://people.tribe.net/discman&amp;usg=__tmAH4WpiCzXhDKLPMWWL-Ww0kBg=&amp;h=375&amp;w=500&amp;sz=107&amp;hl=en&amp;start=7&amp;tbnid=2A-7BV0JyBL3EM:&amp;tbnh=98&amp;tbnw=130&amp;prev=/images%3Fq%3Dcosta%2Brica%2Bwildlife%26gbv%3D2%26hl%3Den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lonelyplanet.com/travelstories/article/costarica_eco_0906/costa_rica.jpg&amp;imgrefurl=http://www.lonelyplanet.com/travelstories/article/costarica_eco_0906&amp;usg=__8S8FYBKNKF0-5VClkiUgZT-3IAA=&amp;h=262&amp;w=466&amp;sz=18&amp;hl=en&amp;start=5&amp;tbnid=JL8gZBh1O6AmDM:&amp;tbnh=72&amp;tbnw=128&amp;prev=/images%3Fq%3Dcosta%2Brica%2Bwildlife%26gbv%3D2%26hl%3Den%26sa%3D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ver5.elliswyatt.com/crvillas/images/Toucansm.jpg&amp;imgrefurl=http://www.crvillas.com/default.aspx%3Fid%3D7&amp;usg=___uFIoMudWjjFudzODj21xZ6uVUg=&amp;h=379&amp;w=320&amp;sz=115&amp;hl=en&amp;start=2&amp;tbnid=5ZFjaxTUyjpZFM:&amp;tbnh=123&amp;tbnw=104&amp;prev=/images%3Fq%3Dcosta%2Brica%2Bwildlife%26gbv%3D2%26hl%3Den%26sa%3D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/imgres?imgurl=http://www.focusonnature.com/CostaR17.jpg&amp;imgrefurl=http://www.focusonnature.com/CentralAmericaMammalList.htm&amp;usg=__hqCve_pxu2KEvcj76wQO_RVhUNM=&amp;h=368&amp;w=247&amp;sz=15&amp;hl=en&amp;start=18&amp;tbnid=iW3Xe3AdbPFD-M:&amp;tbnh=122&amp;tbnw=82&amp;prev=/images%3Fq%3Dcosta%2Brica%2Bwildlife%26gbv%3D2%26hl%3Den%26sa%3DG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google.com/imgres?imgurl=http://www.costaricaholiday.co.uk/Images/Packages/jaguar.jpg&amp;imgrefurl=http://www.costaricaholiday.co.uk/Family/FamilyWildlife.htm&amp;usg=__j-qvNaUbhXl6T6C3OSZHySdC3co=&amp;h=222&amp;w=335&amp;sz=11&amp;hl=en&amp;start=6&amp;tbnid=UhR-gzUrEn8KwM:&amp;tbnh=79&amp;tbnw=119&amp;prev=/images%3Fq%3Dcosta%2Brica%2Bwildlife%26gbv%3D2%26hl%3Den%26sa%3D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static.travelmuse.com/docs/artwork/costa-rica/costa-rica-wildlife-monkeys-full.jpg&amp;imgrefurl=http://www.travelmuse.com/articles/costa-rica/wildlife-sightings&amp;usg=__tQqXRBFcCjF1zlbP_xcPAnUjUcA=&amp;h=800&amp;w=533&amp;sz=62&amp;hl=en&amp;start=42&amp;tbnid=7sT8TjGVXYx_kM:&amp;tbnh=143&amp;tbnw=95&amp;prev=/images%3Fq%3Dcosta%2Brica%2Bwildlife%26gbv%3D2%26ndsp%3D20%26hl%3Den%26sa%3DN%26start%3D40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imagecache2.allposters.com/images/pic/PTGPOD/386515~Eyelash-Viper-Snake-Costa-Rica-Posters.jpg&amp;imgrefurl=http://www.zimbio.com/David%2BCarradine/articles/122/The%2BAnimals%2Bof%2BKung%2BFu%2BPanda&amp;usg=__v0aAPc0tfW43JSOjBn-5FOLbAnc=&amp;h=450&amp;w=337&amp;sz=39&amp;hl=en&amp;start=1&amp;tbnid=f3hfBrt_vPgm-M:&amp;tbnh=127&amp;tbnw=95&amp;prev=/images%3Fq%3Dcosta%2Brica%2Bsnakes%2Blizard%26gbv%3D2%26hl%3Den%26sa%3DG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images.google.com/imgres?imgurl=http://www.costarica.com/Blog/uploaded_images/Basilisk-Lizard-746623.JPG&amp;imgrefurl=http://www.costarica.com/Blog/2008_05_01_archive.html&amp;usg=__TIGRHZGS8Ds3ucbkUpvR3x-Fkt0=&amp;h=480&amp;w=610&amp;sz=121&amp;hl=en&amp;start=11&amp;tbnid=3SMoa6vZtsbpVM:&amp;tbnh=107&amp;tbnw=136&amp;prev=/images%3Fq%3Dcosta%2Brica%2Bsnakes%2Blizard%26gbv%3D2%26hl%3Den%26sa%3DG" TargetMode="External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martwomenscoaching.com/blog/wp-content/uploads/2006/11/Costa%2520Rica.bmp&amp;imgrefurl=http://www.capricornleisure.com/destinations/costa-rica/&amp;usg=__oNsmqzHwNvjrkAvS1HlqkV9N1to=&amp;h=300&amp;w=380&amp;sz=335&amp;hl=en&amp;start=10&amp;tbnid=n0fvxSiK7aa0rM:&amp;tbnh=97&amp;tbnw=123&amp;prev=/images%3Fq%3Dcosta%2Brica%26gbv%3D2%26hl%3Den%26sa%3D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Toucan Flapping Wings Animated Clip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038480"/>
            <a:ext cx="1695600" cy="1695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Monarch Butterfly Flapping Wings Animated Clipar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41911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38080" y="380880"/>
            <a:ext cx="3657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sta R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214" name="" descr="Volcano erupting Animated Clipar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1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826920"/>
            <a:ext cx="2590920" cy="2532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25360"/>
            <a:ext cx="2590920" cy="1947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228600"/>
            <a:ext cx="1743120" cy="1962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365760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33920" y="3124080"/>
            <a:ext cx="2819160" cy="212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114800" y="1066680"/>
            <a:ext cx="20383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Waterfall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3809880"/>
            <a:ext cx="2857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Rainfore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895480" y="2514600"/>
            <a:ext cx="3505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ildli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2590920"/>
            <a:ext cx="1981440" cy="1493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124080"/>
            <a:ext cx="2438280" cy="1371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380880"/>
            <a:ext cx="1635120" cy="1933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114800" y="4267080"/>
            <a:ext cx="1549440" cy="2305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920" y="914400"/>
            <a:ext cx="2200320" cy="1460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1800" y="380880"/>
            <a:ext cx="1163520" cy="1752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0760" y="426708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09480" y="4876920"/>
            <a:ext cx="1981440" cy="1558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914400"/>
            <a:ext cx="48769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apital City:    San J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ocated in Central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opular Spot for Tour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Nature Preserves &amp; Rainfo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eautiful Be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131840"/>
            <a:ext cx="2086200" cy="1644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324480" y="3578400"/>
            <a:ext cx="1981440" cy="1517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48:08Z</dcterms:created>
  <dc:creator>Patrick Mooney</dc:creator>
  <dc:description/>
  <dc:language>en-US</dc:language>
  <cp:lastModifiedBy>Patrick J. Mooney</cp:lastModifiedBy>
  <dcterms:modified xsi:type="dcterms:W3CDTF">2010-08-31T14:18:31Z</dcterms:modified>
  <cp:revision>5</cp:revision>
  <dc:subject/>
  <dc:title>Slide 1</dc:title>
</cp:coreProperties>
</file>